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7.jpeg" ContentType="image/jpeg"/>
  <Override PartName="/ppt/media/image31.wmf" ContentType="image/x-wmf"/>
  <Override PartName="/ppt/media/image13.png" ContentType="image/png"/>
  <Override PartName="/ppt/media/image20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19.jpeg" ContentType="image/jpeg"/>
  <Override PartName="/ppt/media/image6.wmf" ContentType="image/x-wmf"/>
  <Override PartName="/ppt/media/image9.jpeg" ContentType="image/jpeg"/>
  <Override PartName="/ppt/media/image33.png" ContentType="image/png"/>
  <Override PartName="/ppt/media/image35.png" ContentType="image/png"/>
  <Override PartName="/ppt/media/image26.jpeg" ContentType="image/jpeg"/>
  <Override PartName="/ppt/media/image34.jpeg" ContentType="image/jpeg"/>
  <Override PartName="/ppt/media/image36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71C-6408-42A6-ADF1-B0191986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1B4-B17A-4C68-886E-C9F39D5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A71-2273-4A46-9BBB-984A998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8A6-2575-4AC7-B89F-D862343E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6D5B-B434-4FE4-8F13-EF5BED09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54F4-DACA-4050-B022-9543B97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EAD-3FBB-4D18-AAC1-36C8877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8DFA-1B91-4EB7-94AB-93536212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27A7-3ECC-40F2-A4C3-9CD8838B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5452-1DCB-4A07-BE19-625324B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3C7-CEB0-4863-A176-1EF9139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6DF-A263-4942-8E64-12929C1D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7305-61D3-4E28-B259-BF81B25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EAC8-E3B4-4650-B333-563803D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C26F-DD51-47D2-871F-4927AC5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1FC8-4BC5-44D1-B1B6-2ED1C63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E9F-8EFF-4AE1-B960-3FD77534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2CE-3391-4BB5-B1B1-7D208C0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FAD-7F1A-4570-9439-E5331C4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AE2-9C08-41FA-994F-B1B97BB7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AD1-DB4C-4AC8-AC48-893C4C7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EF4-EE1E-41DA-8F38-9B47BF2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5F1-1AA4-4897-920F-A3D1F1F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18E-0E0A-42AE-ACD2-BAC0F6D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DED-2F2A-4F80-AC0B-70B2566C0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DFD-CD8E-48A6-9F2A-E73F88F154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b/Elizabeth_I_%28Armada_Portrait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0/1590_or_later_Marcus_Gheeraerts%2C_Sir_Francis_Drake_Buckland_Abbey%2C_Devo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Nicholas_Hilliard_00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Two: The Planting of English America (1500-173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83b3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amestown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18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762120" y="4952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usan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odsp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600px-Virginia_quarter%2C_reverse_side%2C_2000" descr="Image:Virginia quarter, reverse side, 2000.jpg"/>
          <p:cNvPicPr/>
          <p:nvPr/>
        </p:nvPicPr>
        <p:blipFill>
          <a:blip r:embed="rId2"/>
          <a:stretch/>
        </p:blipFill>
        <p:spPr>
          <a:xfrm>
            <a:off x="1143000" y="6480"/>
            <a:ext cx="6858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amestown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914400"/>
            <a:ext cx="8382240" cy="567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914400"/>
            <a:ext cx="8382240" cy="5657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7" name="" descr="James Fort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958680"/>
            <a:ext cx="9144000" cy="559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ocahontas3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819160" cy="38098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John Smith"/>
          <p:cNvPicPr/>
          <p:nvPr/>
        </p:nvPicPr>
        <p:blipFill>
          <a:blip r:embed="rId2"/>
          <a:stretch/>
        </p:blipFill>
        <p:spPr>
          <a:xfrm>
            <a:off x="2971800" y="1600200"/>
            <a:ext cx="291456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0" name=""/>
          <p:cNvSpPr/>
          <p:nvPr/>
        </p:nvSpPr>
        <p:spPr>
          <a:xfrm>
            <a:off x="1295280" y="5715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here was no talk…but dig gold, wash gold, refine gold, load gol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Captain John Smith</a:t>
            </a:r>
            <a:br>
              <a:rPr sz="4400"/>
            </a:br>
            <a:r>
              <a:rPr b="0" lang="en-US" sz="2800" spc="-1" strike="noStrike">
                <a:solidFill>
                  <a:srgbClr val="cc0000"/>
                </a:solidFill>
                <a:latin typeface="Lucida Calligraphy"/>
              </a:rPr>
              <a:t>The right man for the job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253368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6188040" y="1600200"/>
            <a:ext cx="287964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The Starving Ti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523880" y="1143000"/>
            <a:ext cx="64771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POPUL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07: 104 colo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spring, 1608: 38 surv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09: 300 more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spring, 1610: 60 surv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10 – 1624: 10,000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24 population: 1,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ult life expectancy: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ath of children before age 5: 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Who saves the day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1430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Lord De La War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Arrival_de_la_warr" descr="Image:Arrival de la warr.jpg"/>
          <p:cNvPicPr/>
          <p:nvPr/>
        </p:nvPicPr>
        <p:blipFill>
          <a:blip r:embed="rId1"/>
          <a:srcRect l="0" t="53150" r="68389" b="3002"/>
          <a:stretch/>
        </p:blipFill>
        <p:spPr>
          <a:xfrm>
            <a:off x="304920" y="1066680"/>
            <a:ext cx="2674800" cy="556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76720" y="1828800"/>
            <a:ext cx="563868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pplies colony in 16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s military into colo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s war with Powhatan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the crown taking over the colony in 1624 (House of Burgesses, 16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0168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Powhatan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62120" y="1181160"/>
            <a:ext cx="7467480" cy="56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2" name="" descr="The massacre of the settlers in 162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1143000"/>
            <a:ext cx="7467480" cy="568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5335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10-16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0120" y="380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776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ne by 16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916360" cy="4800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914400" y="614052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a9b7"/>
                </a:solidFill>
                <a:latin typeface="Comic Sans MS"/>
              </a:rPr>
              <a:t>What finally made the colony prosperous?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ohn Rol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037120" cy="670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914400" y="68580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Survivant"/>
              </a:rPr>
              <a:t>Tobacco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1981080"/>
            <a:ext cx="2133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a9b7"/>
                </a:solidFill>
                <a:latin typeface="Comic Sans MS"/>
              </a:rPr>
              <a:t>Virginia’s gold and silver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John Rolfe, 16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8600" y="457200"/>
            <a:ext cx="8915400" cy="5639760"/>
          </a:xfrm>
          <a:prstGeom prst="rect">
            <a:avLst/>
          </a:prstGeom>
          <a:solidFill>
            <a:srgbClr val="5a5c6c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2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Despite losing nearly one-third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its colonists in an Indian attack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6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500,000 pound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of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9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1,50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of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3886200" y="76320"/>
          <a:ext cx="52052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76320"/>
                    <a:ext cx="52052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43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Lucida Calligraphy"/>
              </a:rPr>
              <a:t>Jamestown Colonization Pattern: 1620-166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590920"/>
            <a:ext cx="3429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Large plantations [&gt;100 acres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idely spread apart [&gt;5 miles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724280"/>
            <a:ext cx="3581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fa9b7"/>
                </a:solidFill>
                <a:latin typeface="Comic Sans MS"/>
              </a:rPr>
              <a:t>Social/Economic</a:t>
            </a:r>
            <a:br>
              <a:rPr sz="3400"/>
            </a:br>
            <a:r>
              <a:rPr b="1" lang="en-US" sz="3400" spc="-1" strike="noStrike">
                <a:solidFill>
                  <a:srgbClr val="6fa9b7"/>
                </a:solidFill>
                <a:latin typeface="Comic Sans MS"/>
              </a:rPr>
              <a:t>PROBLEMS??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19320" y="1295280"/>
            <a:ext cx="6172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Headright Syst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ach Virginian got 50 acres for each person whose passage they pa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19320" y="3352680"/>
            <a:ext cx="67053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Indenture Contrac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5-7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romised “freedom dues” [land, $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bidden to mar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1610-1614:  only 1 in 10 outlived their indentured contrac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Indentured Servitu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What came before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990720"/>
            <a:ext cx="845820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Other players in North Ame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ain in FL, NM, TX, AZ, and CA (16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rance around the Great Lakes (16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2200" y="2960640"/>
            <a:ext cx="8821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Birth of a “superpower”…Bri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VIII breaks w/ Catholic Church (153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estant England put into conflict with Catholic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izabeth I (The Virgin Que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nts Spanish Gold /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nts to protect 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7305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5174" t="0" r="0" b="0"/>
          <a:stretch/>
        </p:blipFill>
        <p:spPr>
          <a:xfrm>
            <a:off x="76320" y="60948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Population of Virgi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Marylan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nded in 1634 by Lord Balti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lic Refuge (Toleration Act, 16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First Lord Baltimore - Large"/>
          <p:cNvPicPr/>
          <p:nvPr/>
        </p:nvPicPr>
        <p:blipFill>
          <a:blip r:embed="rId1"/>
          <a:srcRect l="0" t="2998" r="0" b="14003"/>
          <a:stretch/>
        </p:blipFill>
        <p:spPr>
          <a:xfrm>
            <a:off x="5616720" y="1676520"/>
            <a:ext cx="33321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6" name="Marycolony" descr="Image:Marycolony.png"/>
          <p:cNvPicPr/>
          <p:nvPr/>
        </p:nvPicPr>
        <p:blipFill>
          <a:blip r:embed="rId2"/>
          <a:srcRect l="0" t="0" r="0" b="14844"/>
          <a:stretch/>
        </p:blipFill>
        <p:spPr>
          <a:xfrm>
            <a:off x="228600" y="2846520"/>
            <a:ext cx="5181480" cy="3935160"/>
          </a:xfrm>
          <a:prstGeom prst="rect">
            <a:avLst/>
          </a:prstGeom>
          <a:ln w="0">
            <a:noFill/>
          </a:ln>
        </p:spPr>
      </p:pic>
      <p:pic>
        <p:nvPicPr>
          <p:cNvPr id="467" name="800px-Large_Broadside_on_the_Maryland_Toleration_Act" descr="Image:Large Broadside on the Maryland Toleration Act.jpg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943600" y="1143000"/>
            <a:ext cx="320040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1660s – 1730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The Carolinas &amp; Georg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lanters &amp; yeomen farmers from VA or the Sugar Islan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Note the “king” name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btors &amp; other petty crimin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digo and Rice top cr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1680" y="7632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The Carolinas and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Queen Elizabeth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Image:Elizabeth I (Armada Portrait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14400"/>
            <a:ext cx="7086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ir Francis Drak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Image:1590 or later Marcus Gheeraerts, Sir Francis Drake Buckland Abbey, Dev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92280" y="838080"/>
            <a:ext cx="4356360" cy="5943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41360" y="117936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i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733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rivat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320040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629400" y="1676520"/>
            <a:ext cx="2262240" cy="2361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514600" y="6172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4,600% Return on Inves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ir Walter Ralei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Image:Nicholas Hilliard 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066680"/>
            <a:ext cx="2686320" cy="32767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s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glish colony in North America at Roanoke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s in 1585, tries again in 1587 (Virginia D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y disappears by 1591 (CROATO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ble for bringing tobacco back to Engl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715000" y="4403880"/>
            <a:ext cx="3071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panish Armada (158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Loutherbourg-Spanish_Armada" descr="Image:Loutherbourg-Spanish Armada.jpg"/>
          <p:cNvPicPr/>
          <p:nvPr/>
        </p:nvPicPr>
        <p:blipFill>
          <a:blip r:embed="rId1"/>
          <a:stretch/>
        </p:blipFill>
        <p:spPr>
          <a:xfrm>
            <a:off x="228600" y="990720"/>
            <a:ext cx="87249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New Opportun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53960" y="1066680"/>
            <a:ext cx="51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cession in the 1590’s = desperat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rich quick w/ the Virginia Company (16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s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n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ver (5/24/16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22857" t="0" r="22539" b="0"/>
          <a:stretch/>
        </p:blipFill>
        <p:spPr>
          <a:xfrm>
            <a:off x="5638680" y="1276200"/>
            <a:ext cx="3276720" cy="4286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362320" y="4800600"/>
            <a:ext cx="2971800" cy="1859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523880" y="76320"/>
          <a:ext cx="66294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320"/>
                    <a:ext cx="6629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52280" y="1752480"/>
          <a:ext cx="25275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752480"/>
                    <a:ext cx="2527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04920" y="2743200"/>
          <a:ext cx="21333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743200"/>
                    <a:ext cx="2133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06:36Z</dcterms:created>
  <dc:creator>Brent J. Freccia</dc:creator>
  <dc:description/>
  <dc:language>en-US</dc:language>
  <cp:lastModifiedBy>Authorized User</cp:lastModifiedBy>
  <dcterms:modified xsi:type="dcterms:W3CDTF">2007-09-06T10:57:38Z</dcterms:modified>
  <cp:revision>6</cp:revision>
  <dc:subject/>
  <dc:title>Chapter Two: The Planting of English America (1500-1733)</dc:title>
</cp:coreProperties>
</file>